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8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</p:sldIdLst>
  <p:sldSz cx="9723438" cy="6119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sldImg"/>
          </p:nvPr>
        </p:nvSpPr>
        <p:spPr>
          <a:xfrm>
            <a:off x="706320" y="685440"/>
            <a:ext cx="544536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bddc3"/>
                </a:solidFill>
                <a:latin typeface="Calibri"/>
              </a:rPr>
              <a:t>Click to move the slide</a:t>
            </a:r>
            <a:endParaRPr b="0" lang="en-US" sz="42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5C9459B8-85EF-4A92-959E-38D3EADB7159}" type="slidenum"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706320" y="685800"/>
            <a:ext cx="544536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A4F7E5FC-2E71-4EA8-86E4-353C7D25B9B7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3414-071A-4685-B55E-46BCFD310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8667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1960" y="3539160"/>
            <a:ext cx="8667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744D-DCC8-4620-A03C-FE8A33332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422964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093640" y="1428840"/>
            <a:ext cx="422964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32978E-BECF-49DA-9788-ACA476811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8D76BE-D570-420A-83DC-C9A3017D5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47640" y="202680"/>
            <a:ext cx="8669520" cy="41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AF62C9-EC33-4523-8035-441432198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093640" y="1428840"/>
            <a:ext cx="422964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51960" y="353916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12281D-5F67-4028-AFDA-9766676FD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422964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09364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5093640" y="353916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F1C7DF-333A-4B0D-AB86-E646AAE9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09364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51960" y="3539160"/>
            <a:ext cx="8667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95552A-819B-4719-BE54-332299F1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8667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51960" y="3539160"/>
            <a:ext cx="8667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2819BC-3A61-432F-94F5-FC5090B81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09364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51960" y="353916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5093640" y="353916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5C185F-5C16-4B04-80B9-757B15D4C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582720" y="142884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513120" y="142884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51960" y="353916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582720" y="353916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513120" y="353916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76D8CA-AF04-4AA0-95DD-4465611B9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539BF51-1AE1-4D47-8613-B41AF7AE7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9364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1960" y="353916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93640" y="353916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753A-D5D9-4D05-B7BD-CBD0D1118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651960" y="1428840"/>
            <a:ext cx="866772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B5A6329-166D-40AF-BA3B-5E9442677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866772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718C4ED-434B-4AA0-A710-7E580B666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422964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93640" y="1428840"/>
            <a:ext cx="422964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10AD233-DE2F-4C48-AB72-B3D96CA26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4252F07-82D0-4864-9348-99BFCFA10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647640" y="202680"/>
            <a:ext cx="8669520" cy="41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19F9CCF-4C0F-441C-B9DC-C3F1BA385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093640" y="1428840"/>
            <a:ext cx="422964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51960" y="353916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7502B47-CE0D-44FD-8EB6-A7DA40BB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422964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09364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093640" y="353916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E47AACC-4518-465E-B646-59C4D6BF9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09364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51960" y="3539160"/>
            <a:ext cx="8667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A460846-46EF-481A-9FB3-36DC007E3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8667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651960" y="3539160"/>
            <a:ext cx="8667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98527C2-D054-44F4-A073-F6EFC4E91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09364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51960" y="353916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5093640" y="353916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6FF1CD7-A269-4690-8C0D-9C95D43AF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82720" y="142884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13120" y="142884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1960" y="353916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82720" y="353916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13120" y="353916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DA40-AADD-447C-A2B8-2660725EF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582720" y="142884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513120" y="142884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651960" y="353916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582720" y="353916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513120" y="353916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FEE4FAA-4DFD-460D-B267-B92F0D1AE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B4F49C-8747-4917-8716-FC565424B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651960" y="1428840"/>
            <a:ext cx="866772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F37B1A-2812-41D3-8B0A-7DA655B6B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866772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AFC9E1-7911-45A4-BCC4-CD5594237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422964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093640" y="1428840"/>
            <a:ext cx="422964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4AABDA-2ED9-4781-9153-8AB603501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660F3B-96E0-4A9C-BC53-14F0EED4E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647640" y="202680"/>
            <a:ext cx="8669520" cy="41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EF0128-2662-4B04-BCD9-6696C0F82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093640" y="1428840"/>
            <a:ext cx="422964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51960" y="353916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00AB05-B24D-4D8D-BEF8-7BE54CBF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422964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09364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5093640" y="353916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DA6376-18CF-436B-A09A-45C409D2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09364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51960" y="3539160"/>
            <a:ext cx="8667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6D5849-1D08-4814-B22B-631A4A4D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AE559-CB4A-4D97-A8BE-3911C7FDA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8667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651960" y="3539160"/>
            <a:ext cx="8667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620FC0-572C-401E-AD5D-CA8C57938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09364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51960" y="353916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5093640" y="353916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E617CB-B493-450A-B385-F16A1044E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582720" y="142884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513120" y="142884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651960" y="353916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582720" y="353916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513120" y="353916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F6C0A8-1D28-4796-B088-42B5473BC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6711CA-4EDE-442A-959D-0A681599C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651960" y="1428840"/>
            <a:ext cx="866772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9A0DA2-1A91-459A-A0A5-15F622A41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866772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DF7924-D5C3-40E8-94FC-521BC05FD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422964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093640" y="1428840"/>
            <a:ext cx="422964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0B2445-D2FD-40E6-8DD1-F0077ED8A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01BE4C-3464-4F67-A8EE-9C7DC6ABA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647640" y="202680"/>
            <a:ext cx="8669520" cy="41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DFC9BE-1EAD-45E3-951E-E51AE4F5A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093640" y="1428840"/>
            <a:ext cx="422964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51960" y="353916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822BE5-8959-44C3-B281-2C7BC8E9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51960" y="1428840"/>
            <a:ext cx="866772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ABB1C-ADAF-48AC-AB1F-0CF6868F4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422964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09364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093640" y="353916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3631B7-0B11-409F-904B-4C2951E3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09364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51960" y="3539160"/>
            <a:ext cx="8667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D6C75F-2D6E-4D63-BE51-933922F2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8667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51960" y="3539160"/>
            <a:ext cx="8667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EBFBA1-6D4C-482C-AEA0-545910A09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09364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51960" y="353916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5093640" y="353916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3515F7-7D92-4FC1-9700-7E700D7DE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582720" y="142884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513120" y="142884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651960" y="353916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582720" y="353916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513120" y="353916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B82FEA-6AA6-413B-B8A4-EC4C8A306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866772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40E78-5E2C-41B9-8317-4EE193FC3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422964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93640" y="1428840"/>
            <a:ext cx="422964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49604-1B5A-494F-8339-8AC6C16B6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F12D0-DF7E-428C-85CD-03E0DADBF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47640" y="202680"/>
            <a:ext cx="8669520" cy="41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1AA06-A7DC-4E1D-BC0E-FCD432BFA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93640" y="1428840"/>
            <a:ext cx="422964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51960" y="353916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0659A-C856-4EB9-A81B-C03328824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1960" y="1428840"/>
            <a:ext cx="866772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393F-3084-4EFF-8DCF-B5836CE70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422964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9364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93640" y="353916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423CB-722E-42C2-AA73-83CD5662A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9364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51960" y="3539160"/>
            <a:ext cx="8667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ACCCE-B20C-468E-BC4D-C43493152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8667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51960" y="3539160"/>
            <a:ext cx="8667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97F58-44AF-4E7D-8EC4-D867F6DFD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9364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1960" y="353916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93640" y="353916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7A641-53E7-4AEE-BC49-4115D8C92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82720" y="142884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513120" y="142884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51960" y="353916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82720" y="353916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513120" y="353916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B86A7-495F-4132-8E78-50D42303A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91C03-3493-4EAA-B78B-A257D9F1F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51960" y="1428840"/>
            <a:ext cx="866772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422ED-9EDF-4C34-9333-F0F716BD5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866772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7F77F-2ECC-4032-A94C-E20E29CD8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422964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93640" y="1428840"/>
            <a:ext cx="422964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CD19F-8CFB-4D2E-B7B3-3EE075752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CA392-A7E5-4365-9D9F-5DF221E2C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866772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9C3A-F8AE-4B03-9B9B-B14C259AF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47640" y="202680"/>
            <a:ext cx="8669520" cy="41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B7977-57EC-4908-9793-50FB3D664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93640" y="1428840"/>
            <a:ext cx="422964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1960" y="353916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00368-E871-4483-A94B-44397BB6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422964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9364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093640" y="353916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B1D15-0393-4B8E-A277-A71CC405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9364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51960" y="3539160"/>
            <a:ext cx="8667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C3104-6721-4F9C-91D0-10043BC8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8667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51960" y="3539160"/>
            <a:ext cx="8667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084CA-D757-4787-9495-423996169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9364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51960" y="353916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93640" y="353916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BB6E8-9FA6-4EB4-8784-419CE3F15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82720" y="142884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513120" y="142884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51960" y="353916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582720" y="353916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513120" y="353916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553CF-5449-4FCC-80A2-48CD9016F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D4E136-B026-4A26-BB79-325101D57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651960" y="1428840"/>
            <a:ext cx="866772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E42809-9675-4A3B-8D8C-0DE9423C8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866772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240480-B759-4571-9B83-CCB568996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422964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93640" y="1428840"/>
            <a:ext cx="422964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3CB5-CDCA-43E2-960C-90B50913D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422964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93640" y="1428840"/>
            <a:ext cx="422964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1C55EE-9128-4AE5-B00E-45B4E187C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56B297-D9D8-4226-B7CC-A98A149F2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647640" y="202680"/>
            <a:ext cx="8669520" cy="41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21B88C-01B5-46AE-951B-2080A3E0D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93640" y="1428840"/>
            <a:ext cx="422964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51960" y="353916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52458E-685D-460A-84AE-774D4A84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422964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09364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93640" y="353916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B08052-B836-44D3-AA79-1F63F277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09364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51960" y="3539160"/>
            <a:ext cx="8667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B6DA9B-F5ED-4789-9358-9A4E8579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8667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51960" y="3539160"/>
            <a:ext cx="8667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64E4F3-84DB-40A3-9010-E472E5A9D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09364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51960" y="353916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5093640" y="353916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73F0E3-664D-4821-B1EC-B27CDA842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582720" y="142884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513120" y="142884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651960" y="353916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582720" y="353916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513120" y="353916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97556B-90D5-42D3-986F-75E299862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999D1C-CB11-4A6C-B0CD-9B3A42394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0F66-44E9-4E19-AA22-F744BA45C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651960" y="1428840"/>
            <a:ext cx="866772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CE1A6E-3C1C-4968-A105-5B2996BD8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866772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B9C83C-07BE-4AB6-9516-6D51E2C94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422964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93640" y="1428840"/>
            <a:ext cx="422964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563DE8-829D-4054-9FB6-26C6C8B13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B5701F-D836-4982-BE69-86793D148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647640" y="202680"/>
            <a:ext cx="8669520" cy="41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62D91F-A462-4C12-BEC9-A3A93C8C3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93640" y="1428840"/>
            <a:ext cx="422964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51960" y="353916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0E335C-EA74-40A6-A43E-0A9AF56B4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422964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9364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93640" y="353916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70D769-6CC2-4C36-A023-B7E6F9C94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9364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51960" y="3539160"/>
            <a:ext cx="8667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12198E-DA20-4482-BB6A-2347AC47E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8667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51960" y="3539160"/>
            <a:ext cx="8667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DA5C9A-D2BF-42D7-9292-F2DAC18F9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09364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51960" y="353916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5093640" y="353916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13155D-654C-4E81-A3CA-5128422AA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47640" y="202680"/>
            <a:ext cx="8669520" cy="41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0FF7-42CB-4A38-AE7E-D8C7975DE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582720" y="142884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513120" y="142884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651960" y="353916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582720" y="353916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513120" y="353916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BC6221-2409-498F-A75A-5D6E2AB96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1C1AB9-50D6-4980-8AFC-C2F08CB67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651960" y="1428840"/>
            <a:ext cx="866772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B51D45-4756-4560-A1E1-70D2620FE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866772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C1DCA3-3B79-4282-A1CB-5287436B2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422964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093640" y="1428840"/>
            <a:ext cx="422964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E25899-F9EB-4678-B13A-A5BDDBA0D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C93F49-3E49-4CB3-BDCC-2415355FB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647640" y="202680"/>
            <a:ext cx="8669520" cy="41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0B421F-FAA9-47CF-9CB8-8AA4BCE24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093640" y="1428840"/>
            <a:ext cx="422964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51960" y="353916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CB5461-F339-48BE-AACC-20E0A5DA3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422964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09364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093640" y="353916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A0F725-AA02-4FEC-B9FF-0406DF92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09364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51960" y="3539160"/>
            <a:ext cx="8667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0F39B3-C812-4500-A05C-D3287FE7D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93640" y="1428840"/>
            <a:ext cx="422964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1960" y="353916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D09F-A73E-43EB-986E-0980D11D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8667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51960" y="3539160"/>
            <a:ext cx="8667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3B794A-08EA-409C-8B78-4BA8AF3B7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9364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51960" y="353916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5093640" y="353916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938DD5-FDEE-49D8-8508-FB2C8D075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582720" y="142884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513120" y="142884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651960" y="353916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582720" y="353916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513120" y="353916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68A984-22F1-4A80-8F9F-1ADF48656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741C2F-6910-4029-A26C-4465B8EA4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651960" y="1428840"/>
            <a:ext cx="866772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0BD7C4-E0AD-42DC-B7CB-57E46CD89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866772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E25645-2787-4357-85BB-B7E785D0A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422964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93640" y="1428840"/>
            <a:ext cx="422964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42EA00-9515-4265-AEB7-C60A6AAB0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8F7CFA-AA7D-4A74-979D-3DD9F6C95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647640" y="202680"/>
            <a:ext cx="8669520" cy="41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B704CA-E04C-4521-A64A-C92B118A4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093640" y="1428840"/>
            <a:ext cx="422964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51960" y="353916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BD7AA2-7B1D-43CC-9FA4-0C471BC6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422964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9364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93640" y="353916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577A-AAF6-4580-BFAF-6561283F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422964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09364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093640" y="353916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6D4AF7-A4D3-4559-A520-9E25E30B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09364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51960" y="3539160"/>
            <a:ext cx="8667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4BF85B-53EE-47E8-A7EF-26FFD6B3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8667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51960" y="3539160"/>
            <a:ext cx="8667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AFA38C-B3FE-4424-95D3-F5051A7EF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09364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51960" y="353916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5093640" y="353916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F4A156-2513-4950-9E69-F332E9792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582720" y="142884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513120" y="142884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51960" y="353916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582720" y="353916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513120" y="353916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9C363B-41B5-4C47-AB43-F7710E164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29B4C1-7638-4FDB-BFD5-10EAE3413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651960" y="1428840"/>
            <a:ext cx="866772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6FBB08-198B-49E2-AD8A-B24B86FA7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866772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09FE13-8C0D-45BA-9B54-14223CAA8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422964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093640" y="1428840"/>
            <a:ext cx="422964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83A1E8-82AE-4B2E-9A19-BB512558F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F7E3D2-35DA-41D0-AAC3-C6F64E89B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9364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1960" y="3539160"/>
            <a:ext cx="8667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98A0-4901-4963-8C21-56D3CF2A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647640" y="202680"/>
            <a:ext cx="8669520" cy="41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368D6A-4502-41F8-B9F1-3C94423BA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093640" y="1428840"/>
            <a:ext cx="422964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51960" y="353916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8EA1BF-92D6-4481-8B3C-DC1844475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422964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09364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093640" y="353916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2AE0C6-A48C-4C65-85D4-361B87AE4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09364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51960" y="3539160"/>
            <a:ext cx="8667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EA362A-5212-45BD-AC14-69F8405D5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8667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51960" y="3539160"/>
            <a:ext cx="8667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49EAEA-36C2-4818-B7D4-F5057A9D0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093640" y="142884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51960" y="353916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5093640" y="3539160"/>
            <a:ext cx="422964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821940-F42F-4E4C-8DA1-49248FEEC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582720" y="142884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513120" y="142884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651960" y="353916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582720" y="353916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513120" y="3539160"/>
            <a:ext cx="2790720" cy="1926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5B9B44-31F3-464F-A970-5E5645C61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C703D3-6CC6-42A6-95A2-FF3693403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51960" y="1428840"/>
            <a:ext cx="866772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56D19E-E587-4A8D-8EFB-387DF1121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51960" y="1428840"/>
            <a:ext cx="866772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C8F092-ED47-45C7-865F-BDACEBC27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1815"/>
            </a:gs>
            <a:gs pos="100000">
              <a:srgbClr val="e9f0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1960" y="1428840"/>
            <a:ext cx="866772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299880" indent="-299880">
              <a:spcBef>
                <a:spcPts val="663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03360" indent="-258840">
              <a:spcBef>
                <a:spcPts val="663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861840" indent="-214200">
              <a:spcBef>
                <a:spcPts val="663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3" marL="1293840" indent="-214200">
              <a:spcBef>
                <a:spcPts val="663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4" marL="1725480" indent="-214200">
              <a:spcBef>
                <a:spcPts val="663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5" marL="1725480" indent="-214200">
              <a:spcBef>
                <a:spcPts val="663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6" marL="1725480" indent="-214200">
              <a:spcBef>
                <a:spcPts val="663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81800" y="5576760"/>
            <a:ext cx="2835360" cy="325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lstStyle>
            <a:lvl1pPr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  <a:defRPr b="0" lang="el-GR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0" lang="el-GR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47640" y="5576760"/>
            <a:ext cx="5764320" cy="325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6 - Ορθογώνιο"/>
          <p:cNvSpPr/>
          <p:nvPr/>
        </p:nvSpPr>
        <p:spPr>
          <a:xfrm>
            <a:off x="0" y="1101600"/>
            <a:ext cx="972180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7 - Ορθογώνιο"/>
          <p:cNvSpPr/>
          <p:nvPr/>
        </p:nvSpPr>
        <p:spPr>
          <a:xfrm>
            <a:off x="0" y="1143000"/>
            <a:ext cx="566640" cy="20304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8 - Ορθογώνιο"/>
          <p:cNvSpPr/>
          <p:nvPr/>
        </p:nvSpPr>
        <p:spPr>
          <a:xfrm>
            <a:off x="627120" y="1143000"/>
            <a:ext cx="9094680" cy="2030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136520"/>
            <a:ext cx="566640" cy="217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lstStyle>
            <a:lvl1pPr indent="0" algn="ctr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  <a:defRPr b="1" lang="el-G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67995DDC-F523-4C99-B520-77097D60913E}" type="slidenum">
              <a:rPr b="1" lang="el-G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1815"/>
            </a:gs>
            <a:gs pos="100000">
              <a:srgbClr val="e9f0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4 - Ορθογώνιο"/>
          <p:cNvSpPr/>
          <p:nvPr/>
        </p:nvSpPr>
        <p:spPr>
          <a:xfrm>
            <a:off x="-9360" y="4081320"/>
            <a:ext cx="972180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5 - Ορθογώνιο"/>
          <p:cNvSpPr/>
          <p:nvPr/>
        </p:nvSpPr>
        <p:spPr>
          <a:xfrm>
            <a:off x="-9360" y="4162320"/>
            <a:ext cx="1555560" cy="63684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6 - Ορθογώνιο"/>
          <p:cNvSpPr/>
          <p:nvPr/>
        </p:nvSpPr>
        <p:spPr>
          <a:xfrm>
            <a:off x="1643040" y="4154400"/>
            <a:ext cx="8078760" cy="6368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7 - Ορθογώνιο"/>
          <p:cNvSpPr/>
          <p:nvPr/>
        </p:nvSpPr>
        <p:spPr>
          <a:xfrm>
            <a:off x="1539720" y="0"/>
            <a:ext cx="106560" cy="612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51960" y="1428840"/>
            <a:ext cx="866772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299880" indent="-299880">
              <a:spcBef>
                <a:spcPts val="663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03360" indent="-258840">
              <a:spcBef>
                <a:spcPts val="663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861840" indent="-214200">
              <a:spcBef>
                <a:spcPts val="663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3" marL="1293840" indent="-214200">
              <a:spcBef>
                <a:spcPts val="663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4" marL="1725480" indent="-214200">
              <a:spcBef>
                <a:spcPts val="663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5" marL="1725480" indent="-214200">
              <a:spcBef>
                <a:spcPts val="663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6" marL="1725480" indent="-214200">
              <a:spcBef>
                <a:spcPts val="663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8"/>
          </p:nvPr>
        </p:nvSpPr>
        <p:spPr>
          <a:xfrm>
            <a:off x="6642000" y="5576760"/>
            <a:ext cx="2836800" cy="325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lstStyle>
            <a:lvl1pPr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  <a:defRPr b="0" lang="el-GR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0" lang="el-GR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sldNum" idx="29"/>
          </p:nvPr>
        </p:nvSpPr>
        <p:spPr>
          <a:xfrm>
            <a:off x="-360" y="4165200"/>
            <a:ext cx="1539720" cy="592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lstStyle>
            <a:lvl1pPr indent="0" algn="ctr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  <a:defRPr b="1" lang="el-G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76716D05-9570-4CE2-8137-1D93B97AEDAA}" type="slidenum">
              <a:rPr b="1" lang="el-G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ftr" idx="30"/>
          </p:nvPr>
        </p:nvSpPr>
        <p:spPr>
          <a:xfrm>
            <a:off x="1701360" y="5576760"/>
            <a:ext cx="4861080" cy="325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1815"/>
            </a:gs>
            <a:gs pos="100000">
              <a:srgbClr val="e9f0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51960" y="1428840"/>
            <a:ext cx="866772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299880" indent="-299880">
              <a:spcBef>
                <a:spcPts val="663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03360" indent="-258840">
              <a:spcBef>
                <a:spcPts val="663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861840" indent="-214200">
              <a:spcBef>
                <a:spcPts val="663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3" marL="1293840" indent="-214200">
              <a:spcBef>
                <a:spcPts val="663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4" marL="1725480" indent="-214200">
              <a:spcBef>
                <a:spcPts val="663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5" marL="1725480" indent="-214200">
              <a:spcBef>
                <a:spcPts val="663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6" marL="1725480" indent="-214200">
              <a:spcBef>
                <a:spcPts val="663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31"/>
          </p:nvPr>
        </p:nvSpPr>
        <p:spPr>
          <a:xfrm>
            <a:off x="6481800" y="5576760"/>
            <a:ext cx="2835360" cy="325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lstStyle>
            <a:lvl1pPr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  <a:defRPr b="0" lang="el-GR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0" lang="el-GR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32"/>
          </p:nvPr>
        </p:nvSpPr>
        <p:spPr>
          <a:xfrm>
            <a:off x="647640" y="5576760"/>
            <a:ext cx="5764320" cy="325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3"/>
          </p:nvPr>
        </p:nvSpPr>
        <p:spPr>
          <a:xfrm>
            <a:off x="0" y="1136520"/>
            <a:ext cx="566640" cy="217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lstStyle>
            <a:lvl1pPr indent="0" algn="ctr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  <a:defRPr b="1" lang="el-G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D6BD76FF-D7BF-4874-8CFC-A361B3BEAF42}" type="slidenum">
              <a:rPr b="1" lang="el-G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1815"/>
            </a:gs>
            <a:gs pos="100000">
              <a:srgbClr val="e9f0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3 - Ορθογώνιο"/>
          <p:cNvSpPr/>
          <p:nvPr/>
        </p:nvSpPr>
        <p:spPr>
          <a:xfrm>
            <a:off x="6481800" y="0"/>
            <a:ext cx="339840" cy="612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4 - Ορθογώνιο"/>
          <p:cNvSpPr/>
          <p:nvPr/>
        </p:nvSpPr>
        <p:spPr>
          <a:xfrm>
            <a:off x="6529320" y="544680"/>
            <a:ext cx="244440" cy="557676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5 - Ορθογώνιο"/>
          <p:cNvSpPr/>
          <p:nvPr/>
        </p:nvSpPr>
        <p:spPr>
          <a:xfrm>
            <a:off x="6529320" y="0"/>
            <a:ext cx="244440" cy="47628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51960" y="1428840"/>
            <a:ext cx="866772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299880" indent="-299880">
              <a:spcBef>
                <a:spcPts val="663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03360" indent="-258840">
              <a:spcBef>
                <a:spcPts val="663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861840" indent="-214200">
              <a:spcBef>
                <a:spcPts val="663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3" marL="1293840" indent="-214200">
              <a:spcBef>
                <a:spcPts val="663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4" marL="1725480" indent="-214200">
              <a:spcBef>
                <a:spcPts val="663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5" marL="1725480" indent="-214200">
              <a:spcBef>
                <a:spcPts val="663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6" marL="1725480" indent="-214200">
              <a:spcBef>
                <a:spcPts val="663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34"/>
          </p:nvPr>
        </p:nvSpPr>
        <p:spPr>
          <a:xfrm>
            <a:off x="6967080" y="5576760"/>
            <a:ext cx="2349720" cy="325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lstStyle>
            <a:lvl1pPr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  <a:defRPr b="0" lang="el-GR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0" lang="el-GR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35"/>
          </p:nvPr>
        </p:nvSpPr>
        <p:spPr>
          <a:xfrm>
            <a:off x="485640" y="5576760"/>
            <a:ext cx="5926320" cy="325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36"/>
          </p:nvPr>
        </p:nvSpPr>
        <p:spPr>
          <a:xfrm rot="5400000">
            <a:off x="6413400" y="107280"/>
            <a:ext cx="476280" cy="2602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lstStyle>
            <a:lvl1pPr indent="0" algn="ctr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  <a:defRPr b="1" lang="el-G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8F6A4D86-2A7E-4317-9D75-9501131DA070}" type="slidenum">
              <a:rPr b="1" lang="el-G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3e1b"/>
            </a:gs>
            <a:gs pos="100000">
              <a:srgbClr val="e9f0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3 - Ορθογώνιο"/>
          <p:cNvSpPr/>
          <p:nvPr/>
        </p:nvSpPr>
        <p:spPr>
          <a:xfrm>
            <a:off x="0" y="5329080"/>
            <a:ext cx="972180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4 - Ορθογώνιο"/>
          <p:cNvSpPr/>
          <p:nvPr/>
        </p:nvSpPr>
        <p:spPr>
          <a:xfrm>
            <a:off x="-9360" y="5403960"/>
            <a:ext cx="2390760" cy="63648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5 - Ορθογώνιο"/>
          <p:cNvSpPr/>
          <p:nvPr/>
        </p:nvSpPr>
        <p:spPr>
          <a:xfrm>
            <a:off x="2508120" y="5394240"/>
            <a:ext cx="7213680" cy="6368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51960" y="1428840"/>
            <a:ext cx="866772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299880" indent="-299880">
              <a:spcBef>
                <a:spcPts val="663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1" marL="603360" indent="-258840">
              <a:spcBef>
                <a:spcPts val="663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2" marL="861840" indent="-214200">
              <a:spcBef>
                <a:spcPts val="663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3" marL="1293840" indent="-214200">
              <a:spcBef>
                <a:spcPts val="663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4" marL="1725480" indent="-214200">
              <a:spcBef>
                <a:spcPts val="663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5" marL="1725480" indent="-214200">
              <a:spcBef>
                <a:spcPts val="663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6" marL="1725480" indent="-214200">
              <a:spcBef>
                <a:spcPts val="663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1000" y="5416560"/>
            <a:ext cx="2187360" cy="612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lstStyle>
            <a:lvl1pPr indent="0" algn="ctr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  <a:defRPr b="0" lang="el-GR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216160" y="210960"/>
            <a:ext cx="6238800" cy="325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507160" y="202680"/>
            <a:ext cx="888840" cy="3416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lstStyle>
            <a:lvl1pPr indent="0" algn="ctr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  <a:defRPr b="1" lang="el-GR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CAFD2C21-5B5F-4E16-BCD0-EDF145DB5E7A}" type="slidenum">
              <a:rPr b="1" lang="el-GR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1815"/>
            </a:gs>
            <a:gs pos="100000">
              <a:srgbClr val="e9f0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51960" y="1428840"/>
            <a:ext cx="866772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299880" indent="-299880">
              <a:spcBef>
                <a:spcPts val="663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03360" indent="-258840">
              <a:spcBef>
                <a:spcPts val="663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861840" indent="-214200">
              <a:spcBef>
                <a:spcPts val="663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3" marL="1293840" indent="-214200">
              <a:spcBef>
                <a:spcPts val="663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4" marL="1725480" indent="-214200">
              <a:spcBef>
                <a:spcPts val="663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5" marL="1725480" indent="-214200">
              <a:spcBef>
                <a:spcPts val="663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6" marL="1725480" indent="-214200">
              <a:spcBef>
                <a:spcPts val="663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481800" y="5576760"/>
            <a:ext cx="2835360" cy="325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lstStyle>
            <a:lvl1pPr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  <a:defRPr b="0" lang="el-GR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0" lang="el-GR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647640" y="5576760"/>
            <a:ext cx="5764320" cy="325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0" y="1136520"/>
            <a:ext cx="566640" cy="217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lstStyle>
            <a:lvl1pPr indent="0" algn="ctr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  <a:defRPr b="1" lang="el-G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22F08D08-9D9E-47A1-9A46-FB1D730C3B1E}" type="slidenum">
              <a:rPr b="1" lang="el-G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1815"/>
            </a:gs>
            <a:gs pos="100000">
              <a:srgbClr val="e9f0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3 - Ορθογώνιο"/>
          <p:cNvSpPr/>
          <p:nvPr/>
        </p:nvSpPr>
        <p:spPr>
          <a:xfrm>
            <a:off x="0" y="1360440"/>
            <a:ext cx="9721800" cy="102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4 - Ορθογώνιο"/>
          <p:cNvSpPr/>
          <p:nvPr/>
        </p:nvSpPr>
        <p:spPr>
          <a:xfrm>
            <a:off x="0" y="1428840"/>
            <a:ext cx="1378080" cy="88416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5 - Ορθογώνιο"/>
          <p:cNvSpPr/>
          <p:nvPr/>
        </p:nvSpPr>
        <p:spPr>
          <a:xfrm>
            <a:off x="1459080" y="1428840"/>
            <a:ext cx="8262720" cy="88416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51960" y="1428840"/>
            <a:ext cx="866772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299880" indent="-299880">
              <a:spcBef>
                <a:spcPts val="663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03360" indent="-258840">
              <a:spcBef>
                <a:spcPts val="663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861840" indent="-214200">
              <a:spcBef>
                <a:spcPts val="663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3" marL="1293840" indent="-214200">
              <a:spcBef>
                <a:spcPts val="663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4" marL="1725480" indent="-214200">
              <a:spcBef>
                <a:spcPts val="663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5" marL="1725480" indent="-214200">
              <a:spcBef>
                <a:spcPts val="663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6" marL="1725480" indent="-214200">
              <a:spcBef>
                <a:spcPts val="663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6481800" y="5576760"/>
            <a:ext cx="2835360" cy="325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lstStyle>
            <a:lvl1pPr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  <a:defRPr b="0" lang="el-GR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0" lang="el-GR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11"/>
          </p:nvPr>
        </p:nvSpPr>
        <p:spPr>
          <a:xfrm>
            <a:off x="0" y="1563480"/>
            <a:ext cx="1378080" cy="626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lstStyle>
            <a:lvl1pPr indent="0" algn="ctr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  <a:defRPr b="1" lang="el-GR" sz="2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49FBF0A0-F738-44EC-93C4-14DB94A914E6}" type="slidenum">
              <a:rPr b="1" lang="el-GR" sz="2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12"/>
          </p:nvPr>
        </p:nvSpPr>
        <p:spPr>
          <a:xfrm>
            <a:off x="647640" y="5576760"/>
            <a:ext cx="5764320" cy="325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1815"/>
            </a:gs>
            <a:gs pos="100000">
              <a:srgbClr val="e9f0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51960" y="1428840"/>
            <a:ext cx="866772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299880" indent="-299880">
              <a:spcBef>
                <a:spcPts val="663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03360" indent="-258840">
              <a:spcBef>
                <a:spcPts val="663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861840" indent="-214200">
              <a:spcBef>
                <a:spcPts val="663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3" marL="1293840" indent="-214200">
              <a:spcBef>
                <a:spcPts val="663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4" marL="1725480" indent="-214200">
              <a:spcBef>
                <a:spcPts val="663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5" marL="1725480" indent="-214200">
              <a:spcBef>
                <a:spcPts val="663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6" marL="1725480" indent="-214200">
              <a:spcBef>
                <a:spcPts val="663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481800" y="5576760"/>
            <a:ext cx="2835360" cy="325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lstStyle>
            <a:lvl1pPr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  <a:defRPr b="0" lang="el-GR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0" lang="el-GR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sldNum" idx="14"/>
          </p:nvPr>
        </p:nvSpPr>
        <p:spPr>
          <a:xfrm>
            <a:off x="0" y="1136520"/>
            <a:ext cx="566640" cy="217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lstStyle>
            <a:lvl1pPr indent="0" algn="ctr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  <a:defRPr b="1" lang="el-G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85165E77-7287-4622-9A83-D13B511B3AD8}" type="slidenum">
              <a:rPr b="1" lang="el-G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ftr" idx="15"/>
          </p:nvPr>
        </p:nvSpPr>
        <p:spPr>
          <a:xfrm>
            <a:off x="647640" y="5576760"/>
            <a:ext cx="5764320" cy="325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1815"/>
            </a:gs>
            <a:gs pos="100000">
              <a:srgbClr val="e9f0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51960" y="1428840"/>
            <a:ext cx="866772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299880" indent="-299880">
              <a:spcBef>
                <a:spcPts val="663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03360" indent="-258840">
              <a:spcBef>
                <a:spcPts val="663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861840" indent="-214200">
              <a:spcBef>
                <a:spcPts val="663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3" marL="1293840" indent="-214200">
              <a:spcBef>
                <a:spcPts val="663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4" marL="1725480" indent="-214200">
              <a:spcBef>
                <a:spcPts val="663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5" marL="1725480" indent="-214200">
              <a:spcBef>
                <a:spcPts val="663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6" marL="1725480" indent="-214200">
              <a:spcBef>
                <a:spcPts val="663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6481800" y="5576760"/>
            <a:ext cx="2835360" cy="325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lstStyle>
            <a:lvl1pPr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  <a:defRPr b="0" lang="el-GR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0" lang="el-GR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7"/>
          </p:nvPr>
        </p:nvSpPr>
        <p:spPr>
          <a:xfrm>
            <a:off x="0" y="1136520"/>
            <a:ext cx="566640" cy="217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lstStyle>
            <a:lvl1pPr indent="0" algn="ctr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  <a:defRPr b="1" lang="el-G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3FDF81DC-211C-4226-9003-B7FAAE33F71E}" type="slidenum">
              <a:rPr b="1" lang="el-G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8"/>
          </p:nvPr>
        </p:nvSpPr>
        <p:spPr>
          <a:xfrm>
            <a:off x="647640" y="5576760"/>
            <a:ext cx="5764320" cy="325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1815"/>
            </a:gs>
            <a:gs pos="100000">
              <a:srgbClr val="e9f0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51960" y="1428840"/>
            <a:ext cx="866772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299880" indent="-299880">
              <a:spcBef>
                <a:spcPts val="663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03360" indent="-258840">
              <a:spcBef>
                <a:spcPts val="663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861840" indent="-214200">
              <a:spcBef>
                <a:spcPts val="663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3" marL="1293840" indent="-214200">
              <a:spcBef>
                <a:spcPts val="663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4" marL="1725480" indent="-214200">
              <a:spcBef>
                <a:spcPts val="663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5" marL="1725480" indent="-214200">
              <a:spcBef>
                <a:spcPts val="663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6" marL="1725480" indent="-214200">
              <a:spcBef>
                <a:spcPts val="663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6481800" y="5576760"/>
            <a:ext cx="2835360" cy="325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lstStyle>
            <a:lvl1pPr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  <a:defRPr b="0" lang="el-GR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0" lang="el-GR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647640" y="5576760"/>
            <a:ext cx="5764320" cy="325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0" y="1136520"/>
            <a:ext cx="566640" cy="217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lstStyle>
            <a:lvl1pPr indent="0" algn="ctr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  <a:defRPr b="1" lang="el-G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A47C0CD4-1146-4CEB-8B9F-D93373E7CDA4}" type="slidenum">
              <a:rPr b="1" lang="el-G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1815"/>
            </a:gs>
            <a:gs pos="100000">
              <a:srgbClr val="e9f0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51960" y="1428840"/>
            <a:ext cx="866772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299880" indent="-299880">
              <a:spcBef>
                <a:spcPts val="663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03360" indent="-258840">
              <a:spcBef>
                <a:spcPts val="663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861840" indent="-214200">
              <a:spcBef>
                <a:spcPts val="663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3" marL="1293840" indent="-214200">
              <a:spcBef>
                <a:spcPts val="663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4" marL="1725480" indent="-214200">
              <a:spcBef>
                <a:spcPts val="663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5" marL="1725480" indent="-214200">
              <a:spcBef>
                <a:spcPts val="663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6" marL="1725480" indent="-214200">
              <a:spcBef>
                <a:spcPts val="663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2"/>
          </p:nvPr>
        </p:nvSpPr>
        <p:spPr>
          <a:xfrm>
            <a:off x="6481800" y="5576760"/>
            <a:ext cx="2835360" cy="325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lstStyle>
            <a:lvl1pPr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  <a:defRPr b="0" lang="el-GR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0" lang="el-GR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3"/>
          </p:nvPr>
        </p:nvSpPr>
        <p:spPr>
          <a:xfrm>
            <a:off x="647640" y="5576760"/>
            <a:ext cx="5764320" cy="325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4"/>
          </p:nvPr>
        </p:nvSpPr>
        <p:spPr>
          <a:xfrm>
            <a:off x="0" y="5576760"/>
            <a:ext cx="566640" cy="3412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lstStyle>
            <a:lvl1pPr indent="0" algn="ctr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  <a:defRPr b="1" lang="el-GR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C7C3FFB7-E6D8-4B68-8995-A0F5A96A6020}" type="slidenum">
              <a:rPr b="1" lang="el-GR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1815"/>
            </a:gs>
            <a:gs pos="100000">
              <a:srgbClr val="e9f0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51960" y="1428840"/>
            <a:ext cx="8667720" cy="4039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299880" indent="-299880">
              <a:spcBef>
                <a:spcPts val="663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603360" indent="-258840">
              <a:spcBef>
                <a:spcPts val="663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861840" indent="-214200">
              <a:spcBef>
                <a:spcPts val="663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3" marL="1293840" indent="-214200">
              <a:spcBef>
                <a:spcPts val="663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4" marL="1725480" indent="-214200">
              <a:spcBef>
                <a:spcPts val="663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5" marL="1725480" indent="-214200">
              <a:spcBef>
                <a:spcPts val="663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6" marL="1725480" indent="-214200">
              <a:spcBef>
                <a:spcPts val="663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6481800" y="5576760"/>
            <a:ext cx="2835360" cy="325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lstStyle>
            <a:lvl1pPr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  <a:defRPr b="0" lang="el-GR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0" lang="el-GR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647640" y="5576760"/>
            <a:ext cx="5764320" cy="325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0" y="1136520"/>
            <a:ext cx="566640" cy="217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lstStyle>
            <a:lvl1pPr indent="0" algn="ctr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  <a:defRPr b="1" lang="el-G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E75810C9-5FCE-40CA-824D-ACEFF0964FC8}" type="slidenum">
              <a:rPr b="1" lang="el-G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fc03.deviantart.net/fs71/i/2014/028/4/6/the_art_of_problem_solving_by_fylwind-d746xh2.png" TargetMode="External"/><Relationship Id="rId2" Type="http://schemas.openxmlformats.org/officeDocument/2006/relationships/image" Target="../media/image10.png"/><Relationship Id="rId3" Type="http://schemas.openxmlformats.org/officeDocument/2006/relationships/hyperlink" Target="https://encrypted-tbn0.gstatic.com/images?q=tbn:ANd9GcRwzYKtuXqPi4QGfadeR_P3hwLuZnxjgTbQXBMj02rJsyYBSz4-TA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visiblethinkingpz.org/VisibleThinking_html_files/03_ThinkingRoutines/03c_CoreRoutines.html" TargetMode="External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https://www.goodreads.com/author/show/1938.Friedrich_Nietzsche" TargetMode="External"/><Relationship Id="rId3" Type="http://schemas.openxmlformats.org/officeDocument/2006/relationships/hyperlink" Target="https://www.goodreads.com/author/show/81803.Stella_Adler" TargetMode="External"/><Relationship Id="rId4" Type="http://schemas.openxmlformats.org/officeDocument/2006/relationships/hyperlink" Target="https://www.goodreads.com/author/show/52760.Frida_Kahlo" TargetMode="External"/><Relationship Id="rId5" Type="http://schemas.openxmlformats.org/officeDocument/2006/relationships/hyperlink" Target="https://www.goodreads.com/author/show/5217.George_Bernard_Shaw" TargetMode="External"/><Relationship Id="rId6" Type="http://schemas.openxmlformats.org/officeDocument/2006/relationships/hyperlink" Target="https://www.goodreads.com/author/show/1221698.Neil_Gaiman" TargetMode="External"/><Relationship Id="rId7" Type="http://schemas.openxmlformats.org/officeDocument/2006/relationships/hyperlink" Target="https://www.goodreads.com/work/quotes/21500681" TargetMode="External"/><Relationship Id="rId8" Type="http://schemas.openxmlformats.org/officeDocument/2006/relationships/hyperlink" Target="https://www.goodreads.com/author/show/159.Henry_James" TargetMode="External"/><Relationship Id="rId9" Type="http://schemas.openxmlformats.org/officeDocument/2006/relationships/hyperlink" Target="https://www.goodreads.com/work/quotes/132296" TargetMode="External"/><Relationship Id="rId10" Type="http://schemas.openxmlformats.org/officeDocument/2006/relationships/hyperlink" Target="https://www.goodreads.com/author/show/140943.Georgia_O_Keeffe" TargetMode="External"/><Relationship Id="rId1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www.goodreads.com/author/show/1203.Andy_Warhol" TargetMode="External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nxietytopeace.com/wp-content/uploads/2013/09/Man-For-Leslie.jpg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pixabay.com/static/uploads/photo/2013/01/11/10/21/creativity-74591_640.jpg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2007.eurac.edu/en/research/institutes/centerofbiomedicine/research/Bioinformatics/PublishingImages/olfactomedin_cTerm_cleft2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fractal.fractalenlighten.netdna-cdn.com/wp-content/uploads/2008/06/Japan-artist-Kumi-Yamashita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thumb101.shutterstock.com/display_pic_with_logo/2117717/197497217/stock-photo-mullti-ethnic-group-of-people-talking-and-using-communication-device-197497217.jpg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 txBox="1"/>
          <p:nvPr/>
        </p:nvSpPr>
        <p:spPr>
          <a:xfrm>
            <a:off x="1260000" y="614880"/>
            <a:ext cx="6769440" cy="859680"/>
          </a:xfrm>
          <a:prstGeom prst="rect">
            <a:avLst/>
          </a:prstGeom>
          <a:solidFill>
            <a:srgbClr val="bfd3e4"/>
          </a:solidFill>
          <a:ln w="19080">
            <a:solidFill>
              <a:srgbClr val="94b6d2"/>
            </a:solidFill>
            <a:miter/>
          </a:ln>
        </p:spPr>
        <p:txBody>
          <a:bodyPr lIns="86400" rIns="86400" tIns="43200" bIns="432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90b"/>
                </a:solidFill>
                <a:latin typeface="Constantia"/>
              </a:rPr>
              <a:t>Art in Education</a:t>
            </a:r>
            <a:endParaRPr b="0" lang="en-US" sz="4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2511360" y="5400720"/>
            <a:ext cx="7129440" cy="6112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>
              <a:lnSpc>
                <a:spcPct val="80000"/>
              </a:lnSpc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513e1b"/>
                </a:solidFill>
                <a:latin typeface="Calibri"/>
              </a:rPr>
              <a:t>26/2/15   1</a:t>
            </a:r>
            <a:r>
              <a:rPr b="1" lang="el-GR" sz="1600" spc="-1" strike="noStrike" baseline="30000">
                <a:solidFill>
                  <a:srgbClr val="513e1b"/>
                </a:solidFill>
                <a:latin typeface="Calibri"/>
              </a:rPr>
              <a:t>ο</a:t>
            </a:r>
            <a:r>
              <a:rPr b="1" lang="el-GR" sz="1600" spc="-1" strike="noStrike">
                <a:solidFill>
                  <a:srgbClr val="513e1b"/>
                </a:solidFill>
                <a:latin typeface="Calibri"/>
              </a:rPr>
              <a:t> ΓΕ.Λ. Βύρωνα,  Νηστικάκη Ανδρονίκη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17" name="3 - Εικόνα" descr="capture-20120414-004405.png"/>
          <p:cNvPicPr/>
          <p:nvPr/>
        </p:nvPicPr>
        <p:blipFill>
          <a:blip r:embed="rId1"/>
          <a:stretch/>
        </p:blipFill>
        <p:spPr>
          <a:xfrm>
            <a:off x="1260360" y="2124000"/>
            <a:ext cx="647712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59080" y="1428840"/>
            <a:ext cx="8100720" cy="8841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w Cen MT"/>
              </a:rPr>
              <a:t>Problem solving</a:t>
            </a: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36" name="4 - Ορθογώνιο"/>
          <p:cNvSpPr/>
          <p:nvPr/>
        </p:nvSpPr>
        <p:spPr>
          <a:xfrm>
            <a:off x="1116000" y="5505480"/>
            <a:ext cx="7489800" cy="3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0" lang="en-US" sz="17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http://fc03.deviantart.net/fs71/i/2014/028/4/6/the_art_of_problem_solving_by_fylwind-d746xh2.pn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7" name="5 - Εικόνα" descr="the_art_of_problem_solving_by_fylwind-d746xh2.png"/>
          <p:cNvPicPr/>
          <p:nvPr/>
        </p:nvPicPr>
        <p:blipFill>
          <a:blip r:embed="rId2"/>
          <a:stretch/>
        </p:blipFill>
        <p:spPr>
          <a:xfrm>
            <a:off x="1547640" y="2773440"/>
            <a:ext cx="2743200" cy="2438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38" name="6 - Εικόνα" descr="images problem solving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16360" y="2916360"/>
            <a:ext cx="3168720" cy="2305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459080" y="1428840"/>
            <a:ext cx="8100720" cy="8841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w Cen MT"/>
              </a:rPr>
              <a:t>Empathy development</a:t>
            </a: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540" name="3 - Εικόνα" descr="colourful-helping-hands-teamwork-4148896.jpg"/>
          <p:cNvPicPr/>
          <p:nvPr/>
        </p:nvPicPr>
        <p:blipFill>
          <a:blip r:embed="rId1"/>
          <a:stretch/>
        </p:blipFill>
        <p:spPr>
          <a:xfrm>
            <a:off x="2413080" y="2484360"/>
            <a:ext cx="4535280" cy="3495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47640" y="202680"/>
            <a:ext cx="8669520" cy="884520"/>
          </a:xfrm>
          <a:prstGeom prst="rect">
            <a:avLst/>
          </a:prstGeom>
          <a:solidFill>
            <a:srgbClr val="ffffff"/>
          </a:solidFill>
          <a:ln w="19080">
            <a:solidFill>
              <a:srgbClr val="94b6d2"/>
            </a:solidFill>
            <a:miter/>
          </a:ln>
        </p:spPr>
        <p:txBody>
          <a:bodyPr lIns="86400" rIns="86400" tIns="43200" bIns="43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5d7e"/>
                </a:solidFill>
                <a:latin typeface="Tw Cen MT"/>
              </a:rPr>
              <a:t>“</a:t>
            </a:r>
            <a:r>
              <a:rPr b="0" lang="en-US" sz="3200" spc="-1" strike="noStrike">
                <a:solidFill>
                  <a:srgbClr val="355d7e"/>
                </a:solidFill>
                <a:latin typeface="Tw Cen MT"/>
              </a:rPr>
              <a:t>Transformative Learning through Aesthetic Experience” (Kokkos, 2010)</a:t>
            </a:r>
            <a:endParaRPr b="0" lang="en-US" sz="3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647280" y="1418760"/>
            <a:ext cx="4132440" cy="4305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lIns="86400" rIns="86400" tIns="43200" bIns="43200" anchor="t">
            <a:normAutofit fontScale="96000"/>
          </a:bodyPr>
          <a:p>
            <a:pPr marL="287640" indent="-287640">
              <a:lnSpc>
                <a:spcPct val="100000"/>
              </a:lnSpc>
              <a:spcBef>
                <a:spcPts val="663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irst stage: Determination of the need to critically and creatively examine a top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7640" indent="-287640">
              <a:lnSpc>
                <a:spcPct val="100000"/>
              </a:lnSpc>
              <a:spcBef>
                <a:spcPts val="663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econd stage: The participants express their ideas about the top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7640" indent="-287640">
              <a:lnSpc>
                <a:spcPct val="100000"/>
              </a:lnSpc>
              <a:spcBef>
                <a:spcPts val="663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ird stage: Identification of critical questions that should be approach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7640" indent="-287640">
              <a:lnSpc>
                <a:spcPct val="100000"/>
              </a:lnSpc>
              <a:spcBef>
                <a:spcPts val="663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7640" indent="-287640">
              <a:lnSpc>
                <a:spcPct val="100000"/>
              </a:lnSpc>
              <a:spcBef>
                <a:spcPts val="663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87640" indent="-287640">
              <a:lnSpc>
                <a:spcPct val="100000"/>
              </a:lnSpc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5151600" y="1418760"/>
            <a:ext cx="4130640" cy="4305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lIns="86400" rIns="86400" tIns="43200" bIns="43200" anchor="t">
            <a:normAutofit/>
          </a:bodyPr>
          <a:p>
            <a:pPr marL="299880" indent="-299880">
              <a:lnSpc>
                <a:spcPct val="100000"/>
              </a:lnSpc>
              <a:spcBef>
                <a:spcPts val="663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ourth stage: Selecting works of art and linking them to the critical ques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9880" indent="-299880">
              <a:lnSpc>
                <a:spcPct val="100000"/>
              </a:lnSpc>
              <a:spcBef>
                <a:spcPts val="663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ifth stage: Elaborating the works of art and linking them to the critical ques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9880" indent="-299880">
              <a:lnSpc>
                <a:spcPct val="100000"/>
              </a:lnSpc>
              <a:spcBef>
                <a:spcPts val="663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ixth stage: Reflection on the experi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9880" indent="-299880">
              <a:lnSpc>
                <a:spcPct val="100000"/>
              </a:lnSpc>
              <a:spcBef>
                <a:spcPts val="663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9880" indent="-299880">
              <a:lnSpc>
                <a:spcPct val="100000"/>
              </a:lnSpc>
              <a:spcBef>
                <a:spcPts val="663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9880" indent="-299880">
              <a:lnSpc>
                <a:spcPct val="100000"/>
              </a:lnSpc>
              <a:spcBef>
                <a:spcPts val="663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66640" y="244440"/>
            <a:ext cx="8669520" cy="776160"/>
          </a:xfrm>
          <a:prstGeom prst="rect">
            <a:avLst/>
          </a:prstGeom>
          <a:solidFill>
            <a:srgbClr val="ffffff"/>
          </a:solidFill>
          <a:ln w="19080">
            <a:solidFill>
              <a:srgbClr val="dd8047"/>
            </a:solidFill>
            <a:miter/>
          </a:ln>
        </p:spPr>
        <p:txBody>
          <a:bodyPr lIns="86400" rIns="86400" tIns="43200" bIns="43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4200" spc="-1" strike="noStrike">
                <a:solidFill>
                  <a:srgbClr val="355d7e"/>
                </a:solidFill>
                <a:latin typeface="Tw Cen MT"/>
              </a:rPr>
              <a:t>Other models to approach art</a:t>
            </a: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539640" y="1765080"/>
            <a:ext cx="4321440" cy="4211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lIns="86400" rIns="86400" tIns="43200" bIns="43200" anchor="t">
            <a:normAutofit fontScale="98000"/>
          </a:bodyPr>
          <a:p>
            <a:pPr marL="293760" indent="-293760" algn="ctr">
              <a:lnSpc>
                <a:spcPct val="100000"/>
              </a:lnSpc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b3d17"/>
                </a:solidFill>
                <a:latin typeface="Tw Cen MT"/>
              </a:rPr>
              <a:t>“</a:t>
            </a:r>
            <a:r>
              <a:rPr b="0" lang="en-US" sz="2700" spc="-1" strike="noStrike">
                <a:solidFill>
                  <a:srgbClr val="7b3d17"/>
                </a:solidFill>
                <a:latin typeface="Tw Cen MT"/>
              </a:rPr>
              <a:t>Learning to think by looking at Art”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63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Looking time”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63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Broadening observation and “invisible” sides (symbolisms, surprises)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63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Deeper explor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63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Holistic, reflective recapitul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63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63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63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63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63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5103360" y="1907640"/>
            <a:ext cx="4132440" cy="4032360"/>
          </a:xfrm>
          <a:prstGeom prst="rect">
            <a:avLst/>
          </a:prstGeom>
          <a:solidFill>
            <a:srgbClr val="ffffff"/>
          </a:solidFill>
          <a:ln w="19080">
            <a:solidFill>
              <a:srgbClr val="dd8047"/>
            </a:solidFill>
            <a:miter/>
          </a:ln>
        </p:spPr>
        <p:txBody>
          <a:bodyPr lIns="86400" rIns="86400" tIns="43200" bIns="43200" anchor="t">
            <a:normAutofit fontScale="97000"/>
          </a:bodyPr>
          <a:p>
            <a:pPr marL="290880" indent="-290880">
              <a:lnSpc>
                <a:spcPct val="100000"/>
              </a:lnSpc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  “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Visible Thinking is a systematic research-based approach to integrating the development of students' thinking with content learning across the subject matters”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90880" indent="-290880">
              <a:lnSpc>
                <a:spcPct val="100000"/>
              </a:lnSpc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http://www.visiblethinkingpz.org/VisibleThinking_html_files/03_ThinkingRoutines/03c_CoreRoutines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39280" y="1188720"/>
            <a:ext cx="4132440" cy="5713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 algn="ctr">
              <a:lnSpc>
                <a:spcPct val="100000"/>
              </a:lnSpc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w Cen MT"/>
              </a:rPr>
              <a:t>Perkin’s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076360" y="1188720"/>
            <a:ext cx="4132440" cy="571320"/>
          </a:xfrm>
          <a:prstGeom prst="rect">
            <a:avLst/>
          </a:prstGeom>
          <a:solidFill>
            <a:srgbClr val="d8b25c"/>
          </a:solidFill>
          <a:ln w="0">
            <a:noFill/>
          </a:ln>
        </p:spPr>
        <p:txBody>
          <a:bodyPr lIns="86400" rIns="86400" tIns="43200" bIns="43200" anchor="ctr">
            <a:normAutofit fontScale="92000"/>
          </a:bodyPr>
          <a:p>
            <a:pPr indent="0" algn="ctr">
              <a:lnSpc>
                <a:spcPct val="100000"/>
              </a:lnSpc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w Cen MT"/>
              </a:rPr>
              <a:t>Visible thinking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459080" y="1428840"/>
            <a:ext cx="8100720" cy="8841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w Cen MT"/>
              </a:rPr>
              <a:t>	</a:t>
            </a:r>
            <a:r>
              <a:rPr b="0" lang="en-US" sz="4200" spc="-1" strike="noStrike">
                <a:solidFill>
                  <a:srgbClr val="ffffff"/>
                </a:solidFill>
                <a:latin typeface="Tw Cen MT"/>
              </a:rPr>
              <a:t>	</a:t>
            </a:r>
            <a:r>
              <a:rPr b="0" lang="en-US" sz="4200" spc="-1" strike="noStrike">
                <a:solidFill>
                  <a:srgbClr val="ffffff"/>
                </a:solidFill>
                <a:latin typeface="Tw Cen MT"/>
              </a:rPr>
              <a:t>Quotations on Art</a:t>
            </a: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550" name="3 - Εικόνα" descr="κατάλογος.jpg"/>
          <p:cNvPicPr/>
          <p:nvPr/>
        </p:nvPicPr>
        <p:blipFill>
          <a:blip r:embed="rId1"/>
          <a:stretch/>
        </p:blipFill>
        <p:spPr>
          <a:xfrm>
            <a:off x="-23760" y="2352600"/>
            <a:ext cx="3505320" cy="3505320"/>
          </a:xfrm>
          <a:prstGeom prst="rect">
            <a:avLst/>
          </a:prstGeom>
          <a:ln w="0">
            <a:noFill/>
          </a:ln>
        </p:spPr>
      </p:pic>
      <p:pic>
        <p:nvPicPr>
          <p:cNvPr id="551" name="4 - Εικόνα" descr="c333e8e93fcb18ae992c639b35398222.jpg"/>
          <p:cNvPicPr/>
          <p:nvPr/>
        </p:nvPicPr>
        <p:blipFill>
          <a:blip r:embed="rId2"/>
          <a:stretch/>
        </p:blipFill>
        <p:spPr>
          <a:xfrm>
            <a:off x="3333600" y="2541600"/>
            <a:ext cx="2695680" cy="2835360"/>
          </a:xfrm>
          <a:prstGeom prst="rect">
            <a:avLst/>
          </a:prstGeom>
          <a:ln w="0">
            <a:noFill/>
          </a:ln>
        </p:spPr>
      </p:pic>
      <p:pic>
        <p:nvPicPr>
          <p:cNvPr id="552" name="5 - Εικόνα" descr="http___www.pixteller.com_pdata_t_l-55957.jpg"/>
          <p:cNvPicPr/>
          <p:nvPr/>
        </p:nvPicPr>
        <p:blipFill>
          <a:blip r:embed="rId3"/>
          <a:stretch/>
        </p:blipFill>
        <p:spPr>
          <a:xfrm>
            <a:off x="5810400" y="2206800"/>
            <a:ext cx="379080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1 - Ορθογώνιο" descr=""/>
          <p:cNvPicPr/>
          <p:nvPr/>
        </p:nvPicPr>
        <p:blipFill>
          <a:blip r:embed="rId1"/>
          <a:stretch/>
        </p:blipFill>
        <p:spPr>
          <a:xfrm>
            <a:off x="304920" y="139680"/>
            <a:ext cx="5694120" cy="1579680"/>
          </a:xfrm>
          <a:prstGeom prst="rect">
            <a:avLst/>
          </a:prstGeom>
          <a:ln w="0">
            <a:noFill/>
          </a:ln>
        </p:spPr>
      </p:pic>
      <p:sp>
        <p:nvSpPr>
          <p:cNvPr id="554" name="2 - Ορθογώνιο"/>
          <p:cNvSpPr/>
          <p:nvPr/>
        </p:nvSpPr>
        <p:spPr>
          <a:xfrm>
            <a:off x="4429080" y="1476360"/>
            <a:ext cx="4861080" cy="648720"/>
          </a:xfrm>
          <a:prstGeom prst="rect">
            <a:avLst/>
          </a:prstGeom>
          <a:solidFill>
            <a:srgbClr val="cbd9d5"/>
          </a:solidFill>
          <a:ln w="10080">
            <a:solidFill>
              <a:srgbClr val="7ba79d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1700" spc="-1" strike="noStrike">
                <a:solidFill>
                  <a:srgbClr val="000000"/>
                </a:solidFill>
                <a:latin typeface="Tw Cen MT"/>
              </a:rPr>
              <a:t>We have art in order not to die of the truth.” 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Tw Cen MT"/>
              </a:rPr>
              <a:t>― </a:t>
            </a:r>
            <a:r>
              <a:rPr b="0" lang="en-US" sz="1700" spc="-1" strike="noStrike" u="sng">
                <a:solidFill>
                  <a:srgbClr val="f7b615"/>
                </a:solidFill>
                <a:uFillTx/>
                <a:latin typeface="Tw Cen MT"/>
                <a:hlinkClick r:id="rId2"/>
              </a:rPr>
              <a:t>Friedrich Nietzsch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3 - Ορθογώνιο"/>
          <p:cNvSpPr/>
          <p:nvPr/>
        </p:nvSpPr>
        <p:spPr>
          <a:xfrm>
            <a:off x="181080" y="2700360"/>
            <a:ext cx="4860720" cy="2167560"/>
          </a:xfrm>
          <a:prstGeom prst="rect">
            <a:avLst/>
          </a:prstGeom>
          <a:solidFill>
            <a:srgbClr val="efcdc1"/>
          </a:solidFill>
          <a:ln w="10080">
            <a:solidFill>
              <a:srgbClr val="dd8047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1700" spc="-1" strike="noStrike">
                <a:solidFill>
                  <a:srgbClr val="000000"/>
                </a:solidFill>
                <a:latin typeface="Tw Cen MT"/>
              </a:rPr>
              <a:t>Style is the answer to everything.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Tw Cen MT"/>
              </a:rPr>
              <a:t>A fresh way to approach a dull or dangerous thing.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Tw Cen MT"/>
              </a:rPr>
              <a:t>To do a dull thing with style is preferable to doing a dangerous thing without it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Tw Cen MT"/>
              </a:rPr>
              <a:t>To do a dangerous thing with style is what I call art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w Cen MT"/>
              </a:rPr>
              <a:t>Charles Bukowski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4 - Ορθογώνιο"/>
          <p:cNvSpPr/>
          <p:nvPr/>
        </p:nvSpPr>
        <p:spPr>
          <a:xfrm>
            <a:off x="539640" y="1692360"/>
            <a:ext cx="3600720" cy="1167120"/>
          </a:xfrm>
          <a:prstGeom prst="rect">
            <a:avLst/>
          </a:prstGeom>
          <a:solidFill>
            <a:srgbClr val="ffffff"/>
          </a:solidFill>
          <a:ln w="1908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1700" spc="-1" strike="noStrike">
                <a:solidFill>
                  <a:srgbClr val="000000"/>
                </a:solidFill>
                <a:latin typeface="Tw Cen MT"/>
              </a:rPr>
              <a:t>life beats down and crushes the soul and art reminds you that you have one” 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Tw Cen MT"/>
              </a:rPr>
              <a:t>― </a:t>
            </a:r>
            <a:r>
              <a:rPr b="0" lang="en-US" sz="1700" spc="-1" strike="noStrike" u="sng">
                <a:solidFill>
                  <a:srgbClr val="f7b615"/>
                </a:solidFill>
                <a:uFillTx/>
                <a:latin typeface="Tw Cen MT"/>
                <a:hlinkClick r:id="rId3"/>
              </a:rPr>
              <a:t>Stella Adle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5 - Ορθογώνιο"/>
          <p:cNvSpPr/>
          <p:nvPr/>
        </p:nvSpPr>
        <p:spPr>
          <a:xfrm>
            <a:off x="5365800" y="2197080"/>
            <a:ext cx="4140000" cy="907920"/>
          </a:xfrm>
          <a:prstGeom prst="rect">
            <a:avLst/>
          </a:prstGeom>
          <a:solidFill>
            <a:srgbClr val="bcbcbc"/>
          </a:solidFill>
          <a:ln w="10080">
            <a:solidFill>
              <a:srgbClr val="0000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1700" spc="-1" strike="noStrike">
                <a:solidFill>
                  <a:srgbClr val="000000"/>
                </a:solidFill>
                <a:latin typeface="Tw Cen MT"/>
              </a:rPr>
              <a:t>I don't paint dreams or nightmares, I paint my own reality.” 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Tw Cen MT"/>
              </a:rPr>
              <a:t>― </a:t>
            </a:r>
            <a:r>
              <a:rPr b="0" lang="en-US" sz="1700" spc="-1" strike="noStrike" u="sng">
                <a:solidFill>
                  <a:srgbClr val="f7b615"/>
                </a:solidFill>
                <a:uFillTx/>
                <a:latin typeface="Tw Cen MT"/>
                <a:hlinkClick r:id="rId4"/>
              </a:rPr>
              <a:t>Frida Kahlo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6 - Ορθογώνιο"/>
          <p:cNvSpPr/>
          <p:nvPr/>
        </p:nvSpPr>
        <p:spPr>
          <a:xfrm>
            <a:off x="6229440" y="252360"/>
            <a:ext cx="3276360" cy="116712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w Cen MT"/>
              </a:rPr>
              <a:t>“</a:t>
            </a:r>
            <a:r>
              <a:rPr b="0" lang="en-US" sz="1700" spc="-1" strike="noStrike">
                <a:solidFill>
                  <a:srgbClr val="ffffff"/>
                </a:solidFill>
                <a:latin typeface="Tw Cen MT"/>
              </a:rPr>
              <a:t>Without art, the crudeness of reality would make the world unbearable.” </a:t>
            </a:r>
            <a:br>
              <a:rPr sz="1700"/>
            </a:br>
            <a:r>
              <a:rPr b="0" lang="en-US" sz="1700" spc="-1" strike="noStrike">
                <a:solidFill>
                  <a:srgbClr val="ffffff"/>
                </a:solidFill>
                <a:latin typeface="Tw Cen MT"/>
              </a:rPr>
              <a:t>― </a:t>
            </a:r>
            <a:r>
              <a:rPr b="0" lang="en-US" sz="1700" spc="-1" strike="noStrike" u="sng">
                <a:solidFill>
                  <a:srgbClr val="f7b615"/>
                </a:solidFill>
                <a:uFillTx/>
                <a:latin typeface="Tw Cen MT"/>
                <a:hlinkClick r:id="rId5"/>
              </a:rPr>
              <a:t>George Bernard Shaw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7 - Ορθογώνιο"/>
          <p:cNvSpPr/>
          <p:nvPr/>
        </p:nvSpPr>
        <p:spPr>
          <a:xfrm>
            <a:off x="5221440" y="3205080"/>
            <a:ext cx="3779640" cy="1721880"/>
          </a:xfrm>
          <a:prstGeom prst="rect">
            <a:avLst/>
          </a:prstGeom>
          <a:solidFill>
            <a:srgbClr val="efcdc1"/>
          </a:solidFill>
          <a:ln w="10080">
            <a:solidFill>
              <a:srgbClr val="dd8047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1700" spc="-1" strike="noStrike">
                <a:solidFill>
                  <a:srgbClr val="000000"/>
                </a:solidFill>
                <a:latin typeface="Tw Cen MT"/>
              </a:rPr>
              <a:t>I make art, sometimes I make true art, and sometimes it fills the empty places in my life. Some of them. Not all.” 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Tw Cen MT"/>
              </a:rPr>
              <a:t>― </a:t>
            </a:r>
            <a:r>
              <a:rPr b="0" lang="en-US" sz="1700" spc="-1" strike="noStrike" u="sng">
                <a:solidFill>
                  <a:srgbClr val="f7b615"/>
                </a:solidFill>
                <a:uFillTx/>
                <a:latin typeface="Tw Cen MT"/>
                <a:hlinkClick r:id="rId6"/>
              </a:rPr>
              <a:t>Neil Gaiman</a:t>
            </a:r>
            <a:r>
              <a:rPr b="0" lang="en-US" sz="1700" spc="-1" strike="noStrike">
                <a:solidFill>
                  <a:srgbClr val="000000"/>
                </a:solidFill>
                <a:latin typeface="Tw Cen MT"/>
              </a:rPr>
              <a:t>, </a:t>
            </a:r>
            <a:r>
              <a:rPr b="0" lang="en-US" sz="1700" spc="-1" strike="noStrike" u="sng">
                <a:solidFill>
                  <a:srgbClr val="f7b615"/>
                </a:solidFill>
                <a:uFillTx/>
                <a:latin typeface="Tw Cen MT"/>
                <a:hlinkClick r:id="rId7"/>
              </a:rPr>
              <a:t>The Ocean at the End of the Lane</a:t>
            </a:r>
            <a:r>
              <a:rPr b="0" i="1" lang="en-US" sz="17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8 - Ορθογώνιο"/>
          <p:cNvSpPr/>
          <p:nvPr/>
        </p:nvSpPr>
        <p:spPr>
          <a:xfrm>
            <a:off x="4573440" y="4716360"/>
            <a:ext cx="4861080" cy="1426320"/>
          </a:xfrm>
          <a:prstGeom prst="rect">
            <a:avLst/>
          </a:prstGeom>
          <a:solidFill>
            <a:srgbClr val="d8dacd"/>
          </a:solidFill>
          <a:ln w="10080">
            <a:solidFill>
              <a:srgbClr val="a5ab81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1700" spc="-1" strike="noStrike">
                <a:solidFill>
                  <a:srgbClr val="000000"/>
                </a:solidFill>
                <a:latin typeface="Tw Cen MT"/>
              </a:rPr>
              <a:t>We work in the dark - we do what we can - we give what we have. Our doubt is our passion, and our passion is our task. The rest is the madness of art.” 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Tw Cen MT"/>
              </a:rPr>
              <a:t>― </a:t>
            </a:r>
            <a:r>
              <a:rPr b="0" lang="en-US" sz="1700" spc="-1" strike="noStrike" u="sng">
                <a:solidFill>
                  <a:srgbClr val="f7b615"/>
                </a:solidFill>
                <a:uFillTx/>
                <a:latin typeface="Tw Cen MT"/>
                <a:hlinkClick r:id="rId8"/>
              </a:rPr>
              <a:t>Henry James</a:t>
            </a:r>
            <a:r>
              <a:rPr b="0" lang="en-US" sz="1700" spc="-1" strike="noStrike">
                <a:solidFill>
                  <a:srgbClr val="000000"/>
                </a:solidFill>
                <a:latin typeface="Tw Cen MT"/>
              </a:rPr>
              <a:t>, </a:t>
            </a:r>
            <a:r>
              <a:rPr b="0" lang="en-US" sz="1700" spc="-1" strike="noStrike" u="sng">
                <a:solidFill>
                  <a:srgbClr val="f7b615"/>
                </a:solidFill>
                <a:uFillTx/>
                <a:latin typeface="Tw Cen MT"/>
                <a:hlinkClick r:id="rId9"/>
              </a:rPr>
              <a:t>The Middle Years</a:t>
            </a:r>
            <a:r>
              <a:rPr b="0" i="1" lang="en-US" sz="17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9 - Ορθογώνιο"/>
          <p:cNvSpPr/>
          <p:nvPr/>
        </p:nvSpPr>
        <p:spPr>
          <a:xfrm>
            <a:off x="181080" y="4645080"/>
            <a:ext cx="4103640" cy="1426320"/>
          </a:xfrm>
          <a:prstGeom prst="rect">
            <a:avLst/>
          </a:prstGeom>
          <a:solidFill>
            <a:srgbClr val="968c8c"/>
          </a:solidFill>
          <a:ln w="47520">
            <a:solidFill>
              <a:srgbClr val="ffffff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w Cen MT"/>
              </a:rPr>
              <a:t>“</a:t>
            </a:r>
            <a:r>
              <a:rPr b="0" lang="en-US" sz="1700" spc="-1" strike="noStrike">
                <a:solidFill>
                  <a:srgbClr val="ffffff"/>
                </a:solidFill>
                <a:latin typeface="Tw Cen MT"/>
              </a:rPr>
              <a:t>I found I could say things with color and shapes that I couldn't say any other way... things I had no words for.” </a:t>
            </a:r>
            <a:br>
              <a:rPr sz="1700"/>
            </a:br>
            <a:r>
              <a:rPr b="0" lang="en-US" sz="1700" spc="-1" strike="noStrike">
                <a:solidFill>
                  <a:srgbClr val="ffffff"/>
                </a:solidFill>
                <a:latin typeface="Tw Cen MT"/>
              </a:rPr>
              <a:t>― </a:t>
            </a:r>
            <a:r>
              <a:rPr b="0" lang="en-US" sz="1700" spc="-1" strike="noStrike" u="sng">
                <a:solidFill>
                  <a:srgbClr val="f7b615"/>
                </a:solidFill>
                <a:uFillTx/>
                <a:latin typeface="Tw Cen MT"/>
                <a:hlinkClick r:id="rId10"/>
              </a:rPr>
              <a:t>Georgia O'Keeff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1 - Θέση κειμένου" descr=""/>
          <p:cNvPicPr/>
          <p:nvPr/>
        </p:nvPicPr>
        <p:blipFill>
          <a:blip r:embed="rId1"/>
          <a:stretch/>
        </p:blipFill>
        <p:spPr>
          <a:xfrm>
            <a:off x="304920" y="2548080"/>
            <a:ext cx="9107280" cy="355428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459080" y="1428840"/>
            <a:ext cx="8100720" cy="8841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w Cen MT"/>
              </a:rPr>
              <a:t>Useful Resources</a:t>
            </a: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96720" y="4789440"/>
            <a:ext cx="8669520" cy="8841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75f55"/>
                </a:solidFill>
                <a:latin typeface="Tw Cen MT"/>
              </a:rPr>
              <a:t>Thanks for being here </a:t>
            </a: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565" name="Picture 2" descr="J:\ΕΙΚΟΝΕΣ HUMAN DIVERSITY\4152.jpg"/>
          <p:cNvPicPr/>
          <p:nvPr/>
        </p:nvPicPr>
        <p:blipFill>
          <a:blip r:embed="rId1"/>
          <a:stretch/>
        </p:blipFill>
        <p:spPr>
          <a:xfrm>
            <a:off x="2916360" y="612720"/>
            <a:ext cx="3682800" cy="4067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1 - Ορθογώνιο"/>
          <p:cNvSpPr/>
          <p:nvPr/>
        </p:nvSpPr>
        <p:spPr>
          <a:xfrm>
            <a:off x="900000" y="2340000"/>
            <a:ext cx="7489800" cy="26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0" lang="en-US" sz="4000" spc="-1" strike="noStrike">
                <a:solidFill>
                  <a:srgbClr val="0d0d0d"/>
                </a:solidFill>
                <a:latin typeface="Andalus"/>
                <a:ea typeface="Andalus"/>
              </a:rPr>
              <a:t>“</a:t>
            </a:r>
            <a:r>
              <a:rPr b="0" lang="en-US" sz="4000" spc="-1" strike="noStrike">
                <a:solidFill>
                  <a:srgbClr val="0d0d0d"/>
                </a:solidFill>
                <a:latin typeface="Andalus"/>
                <a:ea typeface="Andalus"/>
              </a:rPr>
              <a:t>The mystery was gone but the amazement was just starting.” </a:t>
            </a:r>
            <a:br>
              <a:rPr sz="4000"/>
            </a:br>
            <a:r>
              <a:rPr b="0" lang="en-US" sz="4000" spc="-1" strike="noStrike" u="sng">
                <a:solidFill>
                  <a:srgbClr val="f7b615"/>
                </a:solidFill>
                <a:uFillTx/>
                <a:latin typeface="Tw Cen MT"/>
                <a:ea typeface="Andalus"/>
                <a:hlinkClick r:id="rId1"/>
              </a:rPr>
              <a:t>Andy Warho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899640" y="2555640"/>
            <a:ext cx="8137800" cy="3384360"/>
          </a:xfrm>
          <a:prstGeom prst="rect">
            <a:avLst/>
          </a:prstGeom>
          <a:solidFill>
            <a:srgbClr val="ffffff"/>
          </a:solidFill>
          <a:ln w="19080">
            <a:solidFill>
              <a:srgbClr val="94b6d2"/>
            </a:solidFill>
            <a:miter/>
          </a:ln>
        </p:spPr>
        <p:txBody>
          <a:bodyPr lIns="86400" rIns="86400" tIns="43200" bIns="43200" anchor="t">
            <a:normAutofit/>
          </a:bodyPr>
          <a:p>
            <a:pPr indent="0" algn="ctr">
              <a:lnSpc>
                <a:spcPct val="100000"/>
              </a:lnSpc>
              <a:spcBef>
                <a:spcPts val="6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e1815"/>
                </a:solidFill>
                <a:latin typeface="Tw Cen MT"/>
              </a:rPr>
              <a:t>The transformative and healing power of     ar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63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e1815"/>
                </a:solidFill>
                <a:latin typeface="Tw Cen MT"/>
              </a:rPr>
              <a:t>Exploration of inner self and the outside worl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63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e1815"/>
                </a:solidFill>
                <a:latin typeface="Tw Cen MT"/>
              </a:rPr>
              <a:t>Emergence and Development of life skil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63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e1815"/>
                </a:solidFill>
                <a:latin typeface="Tw Cen MT"/>
              </a:rPr>
              <a:t>Outlet for emotions and ideas not easily expressed otherwis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63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e1815"/>
                </a:solidFill>
                <a:latin typeface="Tw Cen MT"/>
              </a:rPr>
              <a:t>Thinking and acting “outside the box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1459080" y="1428840"/>
            <a:ext cx="8100720" cy="8841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w Cen MT"/>
              </a:rPr>
              <a:t>Art in Education. Why?</a:t>
            </a: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28720" y="324000"/>
            <a:ext cx="7848720" cy="884160"/>
          </a:xfrm>
          <a:prstGeom prst="rect">
            <a:avLst/>
          </a:prstGeom>
          <a:solidFill>
            <a:srgbClr val="ffffff"/>
          </a:solidFill>
          <a:ln w="19080">
            <a:solidFill>
              <a:srgbClr val="94b6d2"/>
            </a:solidFill>
            <a:miter/>
          </a:ln>
        </p:spPr>
        <p:txBody>
          <a:bodyPr lIns="86400" rIns="86400" tIns="43200" bIns="43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55d7e"/>
                </a:solidFill>
                <a:latin typeface="Tw Cen MT"/>
              </a:rPr>
              <a:t>Why Art Education is important</a:t>
            </a: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522" name="Why Art Education is Important (1).wmv" descr=""/>
          <p:cNvPicPr/>
          <p:nvPr/>
        </p:nvPicPr>
        <p:blipFill>
          <a:blip r:embed="rId1"/>
          <a:stretch/>
        </p:blipFill>
        <p:spPr>
          <a:xfrm>
            <a:off x="973080" y="1630440"/>
            <a:ext cx="7632720" cy="41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2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2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5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28720" y="468360"/>
            <a:ext cx="7848720" cy="884160"/>
          </a:xfrm>
          <a:prstGeom prst="rect">
            <a:avLst/>
          </a:prstGeom>
          <a:solidFill>
            <a:srgbClr val="ffffff"/>
          </a:solidFill>
          <a:ln w="19080">
            <a:solidFill>
              <a:srgbClr val="94b6d2"/>
            </a:solidFill>
            <a:miter/>
          </a:ln>
        </p:spPr>
        <p:txBody>
          <a:bodyPr lIns="86400" rIns="86400" tIns="43200" bIns="43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55d7e"/>
                </a:solidFill>
                <a:latin typeface="Tw Cen MT"/>
              </a:rPr>
              <a:t>The importance of Art Education</a:t>
            </a: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524" name="The Importance of Art Education.wmv" descr=""/>
          <p:cNvPicPr/>
          <p:nvPr/>
        </p:nvPicPr>
        <p:blipFill>
          <a:blip r:embed="rId1"/>
          <a:stretch/>
        </p:blipFill>
        <p:spPr>
          <a:xfrm>
            <a:off x="1260360" y="1908000"/>
            <a:ext cx="72723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24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24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5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459080" y="1428840"/>
            <a:ext cx="8100720" cy="8841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w Cen MT"/>
              </a:rPr>
              <a:t>Self expression</a:t>
            </a: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526" name="3 - Εικόνα" descr="Man-For-Lesli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2556000"/>
            <a:ext cx="3434040" cy="334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27" name="5 - Εικόνα" descr="creativity-74591_640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213080" y="2484360"/>
            <a:ext cx="4876920" cy="3444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459080" y="1428840"/>
            <a:ext cx="8100720" cy="8841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w Cen MT"/>
              </a:rPr>
              <a:t>Experimentation</a:t>
            </a: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529" name="3 - Εικόνα" descr="olfactomedin_cTerm_cleft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65440" y="2484360"/>
            <a:ext cx="6551640" cy="3421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459080" y="1428840"/>
            <a:ext cx="8100720" cy="8841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w Cen MT"/>
              </a:rPr>
              <a:t>Creativity</a:t>
            </a: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531" name="3 - Εικόνα" descr="Japan-artist-Kumi-Yamashit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9080" y="2413080"/>
            <a:ext cx="7331040" cy="3533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459080" y="1428840"/>
            <a:ext cx="8100720" cy="8841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w Cen MT"/>
              </a:rPr>
              <a:t>Communication</a:t>
            </a:r>
            <a:endParaRPr b="0" lang="en-US" sz="42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533" name="3 - Εικόνα" descr="stock-photo-mullti-ethnic-group-of-people-talking-and-using-communication-device-197497217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92720" y="2773440"/>
            <a:ext cx="3456000" cy="3095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34" name="4 - Εικόνα" descr="rijzXBjiR.png"/>
          <p:cNvPicPr/>
          <p:nvPr/>
        </p:nvPicPr>
        <p:blipFill>
          <a:blip r:embed="rId3"/>
          <a:stretch/>
        </p:blipFill>
        <p:spPr>
          <a:xfrm>
            <a:off x="612720" y="2197080"/>
            <a:ext cx="4246560" cy="38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2T12:03:18Z</dcterms:created>
  <dc:creator>NIKH</dc:creator>
  <dc:description/>
  <dc:language>en-US</dc:language>
  <cp:lastModifiedBy>USER</cp:lastModifiedBy>
  <dcterms:modified xsi:type="dcterms:W3CDTF">2015-02-23T21:25:58Z</dcterms:modified>
  <cp:revision>25</cp:revision>
  <dc:subject/>
  <dc:title>H τέχνη στην εκπαίδευση</dc:title>
</cp:coreProperties>
</file>